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56C-05E4-485D-BB7E-1ECEF45D0F3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4563-32ED-47B6-A516-2AA6A1BD45E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6B89-C377-4D55-8756-956429C2C2F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654-DC68-45B6-ADEB-E4A4FDC1393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A99B-1D3D-4C6D-B09A-3A3A2FFDA6B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8E1-90DE-459B-B60B-850FEDB066A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C7D-2B5E-4207-9578-AA511B60C3C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BDB3-4AD0-4663-91AA-ED647198D67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11AF-783D-4E69-94AB-F40400C1172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24E-256E-4BBF-A2A2-17B4CF7B250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4D87-9F4C-44F4-996A-3FB164779D3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A17-3C6E-4811-951E-23EF8B16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34D-1161-432C-A164-BD6791B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F72-7D61-4448-A777-B060B445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3FD-5BAA-4F65-94CD-CEA57AB6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FD3-4EA3-4D31-AC65-F9EE081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BD8-A2A4-4979-8963-AF50C7A1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51FE-E1B6-438A-8889-BBBBB28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A111-DB1C-4207-807D-1744272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59E-44B8-451C-9C29-2162AFD4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079-20D3-4D1F-AD46-A3FC5C7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7D92-06CB-4A26-A530-AF23EDD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7B8-89FC-4C6A-AA7C-BE6AD7F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AC9A-1613-41D4-A6E6-397732E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080-4D13-4B1A-800B-58AFABA9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5476-D258-42F1-9070-CEF8BB2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4BBF-F34A-4896-99D3-4E28F37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D74-4B6D-4B74-A19D-28C6B3CC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C64E-E854-4D7D-8DD1-C0E7A80B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C447-0386-4256-806B-2C2883EA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0255-9E3A-43A9-AB55-D3CF1DB1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2489-8F9C-45EC-8C83-E4E23812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90A0-CAD1-4592-B525-7209DD9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080-EB88-412C-B66A-686AA0C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C484-4A30-41CA-BB8D-CA60AB52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4819-C953-4568-B8C0-0D79BD7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823E-6ED0-48B6-BFF5-79B25B1C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CA4E-F21F-435D-9214-ED6512B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0522-9D14-4EB2-8844-6039E68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92F7-60E9-42D4-B4C0-37003820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56F1-A168-4352-9A6E-6287623D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0247-E283-4425-8356-22231D12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6DC1-D347-4DE2-B4F8-3A0F61D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036E-02C0-4520-A571-C9EE0D8C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46D-B954-456B-A3BB-21947F2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743B-C3F5-4CF9-8888-DE6E4F10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C435-C1C7-45D2-A485-5666CEF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A9CA-6482-4F32-99FA-C2D416C4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C1D3-3100-4C90-9BA7-01D9D44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0463-17F3-4F47-A740-801E2CB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6D84-5833-4046-B906-54C473A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C601-CEBE-44A9-A757-2BBBC59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30D3-99D7-4888-8D21-6E75E08C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54EC-05B0-4AA9-A1DE-6A6F0663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86CF-C22C-4681-B24E-8BD8CA62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929-B625-433B-8019-E1B2CB9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250B-4204-4665-A8AA-E755056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176E-D0CE-4223-9A0D-7B22431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7420-811D-49F1-9C5D-DE63EA34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AD53-F2E1-4174-A969-06F28D0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16B8-343C-4EE7-95A8-29BD3BF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4623-813B-4D63-A9F1-86D5A5C4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1BAE-27CC-4FDD-ACEC-DFB779E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DCB7-76A6-4575-818C-5DAAB32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6027-AB5F-42F0-ADC3-953D3EC8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478E-9F92-43CD-A8F1-3E220B75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2B4-063A-4CFC-B90B-B40646E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33E13-3744-49BD-9CFF-823FDA00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02C00-2FDD-4479-B134-0524625F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C4F9-44EF-47B4-8170-E5C2B80E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56F82-0361-4E0F-AF94-AA83832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252F-39FA-4CB4-BD39-9C9C36E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57B9-1F93-4E35-B5C1-4D2D306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A833-6A45-408B-9ED5-F0D7922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933E-B873-4442-866F-C8BFBAE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ECBC-B3FD-4051-9C11-FA23B5A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5BF0-852A-40CE-AB00-B466946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902-C321-4FED-B152-0729E8D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BAFD-5421-4961-9205-3F1EFBD5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1CAA-FDBA-419E-8EAA-468F118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DB0F-D486-492C-AA65-8E0F8524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42FC-1F57-4A7F-9F29-D2E66689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D784-E3B4-4829-A482-DF2F620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550C-F657-4698-B458-2B392F6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0BB5-4E32-4500-9C06-D331DA28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33BD-F97D-4C77-A1B7-FA3EC57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1180-CFA1-443F-903A-61254C55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EDB6-18B2-4B09-BDE0-3151BD7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995-DF3D-4672-AB84-F3D0BBB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C4BC-D71C-4B31-AEDA-F903DF1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E9189-1F9B-4698-96DF-1104851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1FB6-7281-4EF4-A95E-D369D07A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7142-8377-47EC-8AF8-F40A2C26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0F95-8A43-4AA0-9E9B-2EDEEB77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A3D-C66F-4DA1-8FC4-0765627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242-EA95-4753-A78D-65B1FDAD28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9E4E-38C7-4003-AA68-788750DC19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DD3-58DE-4C86-A193-183DD5A531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59E-47B5-49B8-AA0A-BE6C0DBFE1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B12-740C-429E-8445-651796B7F3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776F-7BEA-41DF-A20A-E378D41ADD0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3F8E-C66D-4132-8681-AFE566264B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300" spc="-1" strike="noStrike">
                <a:solidFill>
                  <a:srgbClr val="572314"/>
                </a:solidFill>
                <a:latin typeface="Gill Sans MT"/>
              </a:rPr>
              <a:t>Embedding ICT into teaching through e-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TextBox 4" descr=""/>
          <p:cNvPicPr/>
          <p:nvPr/>
        </p:nvPicPr>
        <p:blipFill>
          <a:blip r:embed="rId1"/>
          <a:stretch/>
        </p:blipFill>
        <p:spPr>
          <a:xfrm>
            <a:off x="3584520" y="3913200"/>
            <a:ext cx="3438720" cy="233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7534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Blooms Digital Taxonom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47560" y="129492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Gill Sans MT"/>
              </a:rPr>
              <a:t>What does e-learning and ICT look like for students at OUCE?  What could it look like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Diagram 3" descr=""/>
          <p:cNvPicPr/>
          <p:nvPr/>
        </p:nvPicPr>
        <p:blipFill>
          <a:blip r:embed="rId1"/>
          <a:stretch/>
        </p:blipFill>
        <p:spPr>
          <a:xfrm>
            <a:off x="530280" y="2127240"/>
            <a:ext cx="5499000" cy="4370400"/>
          </a:xfrm>
          <a:prstGeom prst="rect">
            <a:avLst/>
          </a:prstGeom>
          <a:ln w="0">
            <a:noFill/>
          </a:ln>
        </p:spPr>
      </p:pic>
      <p:pic>
        <p:nvPicPr>
          <p:cNvPr id="357" name="Diagram 5" descr=""/>
          <p:cNvPicPr/>
          <p:nvPr/>
        </p:nvPicPr>
        <p:blipFill>
          <a:blip r:embed="rId2"/>
          <a:stretch/>
        </p:blipFill>
        <p:spPr>
          <a:xfrm>
            <a:off x="3425760" y="1974960"/>
            <a:ext cx="595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2551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5"/>
          <p:cNvSpPr/>
          <p:nvPr/>
        </p:nvSpPr>
        <p:spPr>
          <a:xfrm>
            <a:off x="6781680" y="4648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Gill Sans MT"/>
              </a:rPr>
              <a:t>Foundations for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ICT’s do you us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ave a chat with your neighbou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do you us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are ICT tool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ow confident are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oes using ICT improve outcomes for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are ICT’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4" name="TextBox 3"/>
          <p:cNvGrpSpPr/>
          <p:nvPr/>
        </p:nvGrpSpPr>
        <p:grpSpPr>
          <a:xfrm>
            <a:off x="1809720" y="1573200"/>
            <a:ext cx="7907400" cy="5849280"/>
            <a:chOff x="1809720" y="1573200"/>
            <a:chExt cx="7907400" cy="5849280"/>
          </a:xfrm>
        </p:grpSpPr>
        <p:pic>
          <p:nvPicPr>
            <p:cNvPr id="335" name="TextBox 3" descr=""/>
            <p:cNvPicPr/>
            <p:nvPr/>
          </p:nvPicPr>
          <p:blipFill>
            <a:blip r:embed="rId1"/>
            <a:stretch/>
          </p:blipFill>
          <p:spPr>
            <a:xfrm>
              <a:off x="1809720" y="1573200"/>
              <a:ext cx="790740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905120" y="1600200"/>
              <a:ext cx="5943600" cy="58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computer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laptop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PDA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digital camera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igital 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video camera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reativity and communication software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Internet </a:t>
              </a:r>
              <a:r>
                <a:rPr b="0" lang="en-NZ" sz="3600" spc="-1" strike="noStrike">
                  <a:solidFill>
                    <a:srgbClr val="000000"/>
                  </a:solidFill>
                  <a:latin typeface="Gill Sans MT"/>
                </a:rPr>
                <a:t>web2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blogs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wiki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Gill Sans MT"/>
                </a:rPr>
                <a:t>telephones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fax machines</a:t>
              </a:r>
              <a:r>
                <a:rPr b="0" lang="en-NZ" sz="4800" spc="-1" strike="noStrike">
                  <a:solidFill>
                    <a:srgbClr val="000000"/>
                  </a:solidFill>
                  <a:latin typeface="Gill Sans MT"/>
                </a:rPr>
                <a:t> mobiles 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tape recorder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interactive storie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simulated environment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omputer games programmable toys </a:t>
              </a:r>
              <a:r>
                <a:rPr b="0" lang="en-NZ" sz="4400" spc="-1" strike="noStrike">
                  <a:solidFill>
                    <a:srgbClr val="000000"/>
                  </a:solidFill>
                  <a:latin typeface="Gill Sans MT"/>
                </a:rPr>
                <a:t>videoconferencing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ata projector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interactive whiteboard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3200" spc="-1" strike="noStrike">
                  <a:solidFill>
                    <a:srgbClr val="000000"/>
                  </a:solidFill>
                  <a:latin typeface="Gill Sans MT"/>
                </a:rPr>
                <a:t>pen driv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7943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Information and communication technology (ICT) has a major impact on the world in which young people live.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Similarly, e-learning </a:t>
            </a:r>
            <a:r>
              <a:rPr b="0" lang="en-NZ" sz="3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NZ" sz="4200" spc="-1" strike="noStrike">
                <a:solidFill>
                  <a:srgbClr val="922223"/>
                </a:solidFill>
                <a:latin typeface="Gill Sans MT"/>
              </a:rPr>
              <a:t>that is, learning supported by or facilitated by ICT</a:t>
            </a:r>
            <a:r>
              <a:rPr b="0" lang="en-NZ" sz="3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has considerable potential to support the teaching approaches outlined in the above section.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581280" y="6324480"/>
            <a:ext cx="541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10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572314"/>
                </a:solidFill>
                <a:latin typeface="Gill Sans MT"/>
              </a:rPr>
              <a:t>Where exactly does e-learning f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Content Placeholder 3" descr=""/>
          <p:cNvPicPr/>
          <p:nvPr/>
        </p:nvPicPr>
        <p:blipFill>
          <a:blip r:embed="rId1"/>
          <a:stretch/>
        </p:blipFill>
        <p:spPr>
          <a:xfrm>
            <a:off x="1139760" y="1163520"/>
            <a:ext cx="7650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342" name="Left-Right Arrow 5"/>
          <p:cNvGrpSpPr/>
          <p:nvPr/>
        </p:nvGrpSpPr>
        <p:grpSpPr>
          <a:xfrm>
            <a:off x="1676520" y="5888160"/>
            <a:ext cx="6662520" cy="774720"/>
            <a:chOff x="1676520" y="5888160"/>
            <a:chExt cx="6662520" cy="774720"/>
          </a:xfrm>
        </p:grpSpPr>
        <p:pic>
          <p:nvPicPr>
            <p:cNvPr id="343" name="Left-Right Arrow 5" descr=""/>
            <p:cNvPicPr/>
            <p:nvPr/>
          </p:nvPicPr>
          <p:blipFill>
            <a:blip r:embed="rId2"/>
            <a:stretch/>
          </p:blipFill>
          <p:spPr>
            <a:xfrm>
              <a:off x="1676520" y="5888160"/>
              <a:ext cx="6662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06560" y="6097680"/>
              <a:ext cx="6203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6"/>
          <p:cNvSpPr/>
          <p:nvPr/>
        </p:nvSpPr>
        <p:spPr>
          <a:xfrm>
            <a:off x="365760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- learning and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7339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Key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71600" y="1294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For instance, e-learning may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ssist the making of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connections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enabling students to enter and explore new learning environments, overcoming barriers of distance and ti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facilitate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shared learning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enabling students to join or create communities of learners that extend well beyond the classro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ssist in the creation of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supportive learning environments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offering resources that take account of individual, cultural, or developmental differen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enhance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opportunities to learn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offering students virtual experiences and tools that save them time, allowing them to take their learning furth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Schools should explore not only how ICT can supplement traditional ways of teaching but also how it can open up new and different ways of learning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733920" y="645804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8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n Schools a snapsh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Gill Sans MT"/>
              </a:rPr>
              <a:t>Last term I worked in schools across all curriculum areas, with teachers and students that are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nimating – scenes from natural disasters – using clay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Videoing – information about their school and putting it on youtube and their wik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Using comic programmes for – posters, narrative writing and recou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Using Interactive boards – from a new entrant class through to year 7 and 8. Used throughout the day for everything from news board to interactive music programmes (garageband and super dooper music looper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Podcasting – doing a weekly news programme and posting on their class blo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Digital Learning Objects – used authentically within learning areas both as a whole class and collaboratively in grou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Gill Sans MT"/>
              </a:rPr>
              <a:t>...and the list goes 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 Tools for Teach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ireless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ata projec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igital and Video camer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Interactive whitebo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eb 2.0 tools – collaborative t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Quality  online digital learning obj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rea Robertson</dc:creator>
  <dc:description/>
  <dc:language>en-US</dc:language>
  <cp:lastModifiedBy>roban31p</cp:lastModifiedBy>
  <dcterms:modified xsi:type="dcterms:W3CDTF">2008-08-14T23:15:51Z</dcterms:modified>
  <cp:revision>24</cp:revision>
  <dc:subject/>
  <dc:title>Embedding ICT into curriculum teaching</dc:title>
</cp:coreProperties>
</file>